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2AD-FF50-4759-8A17-B2BBA0D5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B26-A6C4-494E-98A8-05124DD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0D0-B024-4C63-869F-A99C97CA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E77-E0E3-4E16-B81B-B9D6F3F9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E05-D0D8-4458-B1C8-1A2010A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527-98B8-4140-9CCF-9195F9A8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C82-3C73-4347-BAC8-0B1CCF7C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577-E1C6-45A9-95A6-FC45DE8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B2B-345E-4039-8DD7-5B01B72B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9DF-4135-408D-99DC-7DF527D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6A8-F784-45A0-9D58-3F0E4F6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F52-6139-4C6F-86D1-2F6010D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F4F0-4F0E-4E8C-AEAA-21D96D20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960" y="200160"/>
            <a:ext cx="834408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7080" y="538200"/>
            <a:ext cx="76298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040" y="385920"/>
            <a:ext cx="81439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720" y="347760"/>
            <a:ext cx="748656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1:06:23Z</dcterms:created>
  <dc:creator>ASD</dc:creator>
  <dc:description/>
  <dc:language>en-US</dc:language>
  <cp:lastModifiedBy>ASD</cp:lastModifiedBy>
  <dcterms:modified xsi:type="dcterms:W3CDTF">2010-06-15T21:06:41Z</dcterms:modified>
  <cp:revision>1</cp:revision>
  <dc:subject/>
  <dc:title>Slide 1</dc:title>
</cp:coreProperties>
</file>